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CE7-2B0F-48F9-BF7D-7C1E246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F9D-63A9-4622-9055-BDF2C24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48C-C5B0-4F84-96B4-E7A80718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CE3-A02C-42AC-BDC6-2D2D193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556-ADA9-4C04-8D3E-A9EDF9C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89C-36FF-4FF2-9E6F-AAEEDBF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EA1-E8E0-45E1-B4D1-9152E68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A8A-4732-44FE-92F6-91D7B71B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F9F-D8C1-42C4-8887-A370E81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D2A-1EB7-4B2D-A810-EEBD6DB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754-C9EC-4BA1-AC6D-5CA8A80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5A5-0B89-48F5-9ADB-0DEF072D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6E6-A01F-4431-830E-85285118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250 Nádherný nebeský 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ý nebeský Sio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e si len krásny se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ja raz so svoj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 Pán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veky býv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oc tam nebude žiad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lúč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otom Boží ľud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lízkosti Božieho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i ja miesto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zástupe spasených piesň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chválu vz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34:12Z</dcterms:modified>
  <cp:revision>22</cp:revision>
  <dc:subject/>
  <dc:title>Je veľký náš Pán, on slávy je Kráľ Nech do všetkých strán  spev vrúcnych znie chvál.</dc:title>
</cp:coreProperties>
</file>